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DCB-4049-4E89-893D-F5EB07F1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927-8927-4CDB-8CB0-D27F4D67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831-FDA7-4480-A174-91AD3D8A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2D7-4231-41AA-8262-C042E6A7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E10-EC2F-4B35-9376-983C86BC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ADF-BAB0-43E1-9370-5E7A314D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6AC-BEF8-4F95-BC44-1F9087F4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F6C-E655-4CFE-A34C-3DF33B05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5FB-233D-426F-A503-B52C54A4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FC7-4FB1-4B1C-998F-F42F5BDF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2F4-207C-442C-80A1-E5662160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7DA-0F90-412F-9041-F4357B3C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12D5-57D5-41CC-A60E-65BEAF586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Meine Reise nach </a:t>
            </a:r>
            <a:r>
              <a:rPr b="0" lang="de-DE" sz="4400" spc="-1" strike="noStrike">
                <a:solidFill>
                  <a:srgbClr val="33ccff"/>
                </a:solidFill>
                <a:latin typeface="Arial"/>
              </a:rPr>
              <a:t>Österre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Kristin Shey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rcRect l="19188" t="20525" r="17502" b="4426"/>
          <a:stretch/>
        </p:blipFill>
        <p:spPr>
          <a:xfrm>
            <a:off x="0" y="0"/>
            <a:ext cx="4876920" cy="5410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rcRect l="18611" t="26058" r="19999" b="38984"/>
          <a:stretch/>
        </p:blipFill>
        <p:spPr>
          <a:xfrm>
            <a:off x="4876920" y="0"/>
            <a:ext cx="4267080" cy="3186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304920" y="56386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fahre mit dem Flugzeug von Chicago nach Graz. Es kostet $988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c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rcRect l="12716" t="34516" r="10835" b="2035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449360" y="1143000"/>
            <a:ext cx="685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h fahre mit der Bahn von Graz nach Wien dann, von Wien nach Graz. Es kostet $16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0"/>
          <p:cNvSpPr/>
          <p:nvPr/>
        </p:nvSpPr>
        <p:spPr>
          <a:xfrm flipV="1">
            <a:off x="7010280" y="2743200"/>
            <a:ext cx="99072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d0d0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666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n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4716360" cy="3504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0" y="13716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besuche die Historisches Zentrum von Wien in der Nähe von der Van Dyck P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will Peterskirche se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besuche die kunst im das Kunsthistorisches Museum neben dem Naturhistoisches Muse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werde die Tiere im Tiergarten Schonbrunner besu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erde die Staatsoper Hause se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h werde mit meiner Familie in Graz und Wien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2"/>
          <a:srcRect l="-11506" t="0" r="-11506" b="0"/>
          <a:stretch/>
        </p:blipFill>
        <p:spPr>
          <a:xfrm>
            <a:off x="1752480" y="1295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0" y="114300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einer Familie Hause hat eine Kü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einer Familie  hat eine Hallenb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einer Familie  hat eine Sa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s kostet $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gzeug Karte + Bahn Karte + Das Hotel + Mi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988 + $164 + $0 + $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Macht Zum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1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20:55:18Z</dcterms:created>
  <dc:creator>CUSD220</dc:creator>
  <dc:description/>
  <dc:language>en-US</dc:language>
  <cp:lastModifiedBy>Helen Sheyka</cp:lastModifiedBy>
  <dcterms:modified xsi:type="dcterms:W3CDTF">2012-01-11T01:51:09Z</dcterms:modified>
  <cp:revision>7</cp:revision>
  <dc:subject/>
  <dc:title>Slide 1</dc:title>
</cp:coreProperties>
</file>